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BEE3-0A3E-4E0A-97E0-68CD351EB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1447920"/>
            <a:ext cx="739116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7560" y="3517560"/>
            <a:ext cx="739116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D562-8FA1-4B70-B1DC-7A5CDF6D3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7560" y="1447920"/>
            <a:ext cx="360684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35120" y="1447920"/>
            <a:ext cx="360684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7560" y="3517560"/>
            <a:ext cx="360684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35120" y="3517560"/>
            <a:ext cx="360684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12B4-B566-4657-9EEB-F2E3B1291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7560" y="1447920"/>
            <a:ext cx="237960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946680" y="1447920"/>
            <a:ext cx="237960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45440" y="1447920"/>
            <a:ext cx="237960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7560" y="3517560"/>
            <a:ext cx="237960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946680" y="3517560"/>
            <a:ext cx="237960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45440" y="3517560"/>
            <a:ext cx="237960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9395-2F60-462E-8834-A9A658104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607E7-F341-4C1C-A60D-D16564007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447560" y="1447920"/>
            <a:ext cx="739116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74533-7DF6-4E6B-AAE6-586F89D70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47560" y="1447920"/>
            <a:ext cx="73911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72EC5-516D-4190-A9A6-EE7000720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7560" y="1447920"/>
            <a:ext cx="3606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35120" y="1447920"/>
            <a:ext cx="3606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20682-284E-486E-B15D-FC027FE24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D1F12-61EE-42EA-B98E-549698098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F1FA6-A88E-4262-8730-24E93FD67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560" y="1447920"/>
            <a:ext cx="360684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35120" y="1447920"/>
            <a:ext cx="3606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47560" y="3517560"/>
            <a:ext cx="360684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1E748-FE88-46E6-AD84-58304669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7560" y="1447920"/>
            <a:ext cx="739116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1D2F-1241-4D6E-8848-94A2565EF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47560" y="1447920"/>
            <a:ext cx="3606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35120" y="1447920"/>
            <a:ext cx="360684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235120" y="3517560"/>
            <a:ext cx="360684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780AC-B23A-4216-8068-C5CFE7A3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1447920"/>
            <a:ext cx="360684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35120" y="1447920"/>
            <a:ext cx="360684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47560" y="3517560"/>
            <a:ext cx="739116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32F0C-6A39-4C33-B028-9B77AEC4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47560" y="1447920"/>
            <a:ext cx="739116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447560" y="3517560"/>
            <a:ext cx="739116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0C2D8-4E8F-4DA2-9311-38B7DB49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47560" y="1447920"/>
            <a:ext cx="360684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35120" y="1447920"/>
            <a:ext cx="360684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447560" y="3517560"/>
            <a:ext cx="360684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235120" y="3517560"/>
            <a:ext cx="360684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43617-E987-46B2-91AA-D37B7C15E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47560" y="1447920"/>
            <a:ext cx="237960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946680" y="1447920"/>
            <a:ext cx="237960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445440" y="1447920"/>
            <a:ext cx="237960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447560" y="3517560"/>
            <a:ext cx="237960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946680" y="3517560"/>
            <a:ext cx="237960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445440" y="3517560"/>
            <a:ext cx="237960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5A52F-1892-4569-861A-42AE30A13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7560" y="1447920"/>
            <a:ext cx="73911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6AAF-0BD2-46D2-846F-4587C0CB0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7560" y="1447920"/>
            <a:ext cx="3606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35120" y="1447920"/>
            <a:ext cx="3606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ACC3-F63D-4958-B44A-99D67F4C9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75B7-E0A2-4482-BA9D-6210C55BD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D7DE-9AE0-4743-BA25-755510BF9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7560" y="1447920"/>
            <a:ext cx="360684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35120" y="1447920"/>
            <a:ext cx="3606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7560" y="3517560"/>
            <a:ext cx="360684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B0EE-E716-4EFC-A548-25BF4EE0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560" y="1447920"/>
            <a:ext cx="3606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5120" y="1447920"/>
            <a:ext cx="360684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35120" y="3517560"/>
            <a:ext cx="360684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4C1F-126E-480A-8810-8CF64DC9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560" y="1447920"/>
            <a:ext cx="360684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35120" y="1447920"/>
            <a:ext cx="360684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7560" y="3517560"/>
            <a:ext cx="739116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6AD0-55BB-4072-AB0D-C5E2A79C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bs-wiki.de/mediawiki/index.php/Hauptseite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03160" y="1244520"/>
            <a:ext cx="822672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-14040" bIns="-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447560" y="1447920"/>
            <a:ext cx="73911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99"/>
              </a:spcBef>
              <a:buClr>
                <a:srgbClr val="33cc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799"/>
              </a:spcBef>
              <a:buClr>
                <a:srgbClr val="8cfe0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973520" indent="-2178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973520" indent="-2178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973520" indent="-2178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Projekt Wi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DBD94-6829-459F-96A7-818701D3C6B4}" type="slidenum">
              <a:rPr b="0" lang="de-DE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Bs-wiki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33200" y="304920"/>
            <a:ext cx="1543320" cy="141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774800" y="762120"/>
            <a:ext cx="69264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Projekt Wi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5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6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8cfe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cfe0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C1E12-F41B-44AD-B29E-40202B213721}" type="slidenum">
              <a:rPr b="0" lang="de-DE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de.wikipedia.org/wiki/Hauptseite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bs-wiki.de/mediawiki/index.php/Kraftfahrzeugmechatroniker" TargetMode="External"/><Relationship Id="rId2" Type="http://schemas.openxmlformats.org/officeDocument/2006/relationships/hyperlink" Target="http://www.bs-wiki.de/mediawiki/index.php/Kraftfahrzeugmechatroniker" TargetMode="External"/><Relationship Id="rId3" Type="http://schemas.openxmlformats.org/officeDocument/2006/relationships/hyperlink" Target="http://www.bs-wiki.de/mediawiki/index.php/Kategorie:Entwicklung_und_Konstruktion" TargetMode="External"/><Relationship Id="rId4" Type="http://schemas.openxmlformats.org/officeDocument/2006/relationships/hyperlink" Target="http://www.bs-wiki.de/mediawiki/index.php/Benutzer:Anthony" TargetMode="External"/><Relationship Id="rId5" Type="http://schemas.openxmlformats.org/officeDocument/2006/relationships/hyperlink" Target="http://www.bs-wiki.de/mediawiki/index.php/FSM2-2003" TargetMode="External"/><Relationship Id="rId6" Type="http://schemas.openxmlformats.org/officeDocument/2006/relationships/hyperlink" Target="http://www.bs-wiki.de/mediawiki/index.php/Ausbildungsbetriebe" TargetMode="External"/><Relationship Id="rId7" Type="http://schemas.openxmlformats.org/officeDocument/2006/relationships/hyperlink" Target="http://www.bs-wiki.de/mediawiki/index.php/Schulrecht" TargetMode="External"/><Relationship Id="rId8" Type="http://schemas.openxmlformats.org/officeDocument/2006/relationships/hyperlink" Target="http://www.bs-wiki.de/mediawiki/index.php/Kategorie:Arbeitsbl&#228;tter" TargetMode="External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Startbil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-304920" y="-152280"/>
            <a:ext cx="9448920" cy="716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Tournesol" descr=""/>
          <p:cNvPicPr/>
          <p:nvPr/>
        </p:nvPicPr>
        <p:blipFill>
          <a:blip r:embed="rId1"/>
          <a:stretch/>
        </p:blipFill>
        <p:spPr>
          <a:xfrm>
            <a:off x="1828800" y="380880"/>
            <a:ext cx="5578560" cy="563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AC92-1231-42FA-A404-95737C745FF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Log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523880" y="1828800"/>
            <a:ext cx="632484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3240">
                  <a:solidFill>
                    <a:srgbClr val="5f5f5f"/>
                  </a:solidFill>
                  <a:miter/>
                </a:ln>
                <a:solidFill>
                  <a:srgbClr val="333399"/>
                </a:solidFill>
                <a:effectLst>
                  <a:outerShdw dist="53966" dir="2700000" blurRad="0" rotWithShape="0">
                    <a:srgbClr val="dddddd"/>
                  </a:outerShdw>
                </a:effectLst>
                <a:latin typeface="Arial Unicode MS"/>
              </a:rPr>
              <a:t>[[      ]]</a:t>
            </a:r>
            <a:endParaRPr b="1" lang="en-US" sz="9600" spc="1" strike="noStrike">
              <a:ln w="3240">
                <a:solidFill>
                  <a:srgbClr val="5f5f5f"/>
                </a:solidFill>
                <a:miter/>
              </a:ln>
              <a:solidFill>
                <a:srgbClr val="333399"/>
              </a:solidFill>
              <a:effectLst>
                <a:outerShdw dist="53966" dir="2700000" blurRad="0" rotWithShape="0">
                  <a:srgbClr val="dddddd"/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514600" y="4114800"/>
            <a:ext cx="426708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24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3333cc"/>
                    </a:gs>
                  </a:gsLst>
                  <a:lin ang="5400000"/>
                </a:gradFill>
                <a:effectLst>
                  <a:outerShdw dist="40186" dir="20503642" blurRad="0" rotWithShape="0">
                    <a:srgbClr val="dddddd"/>
                  </a:outerShdw>
                </a:effectLst>
                <a:latin typeface="Arial Unicode MS"/>
              </a:rPr>
              <a:t>Wissen teilen.</a:t>
            </a:r>
            <a:endParaRPr b="1" lang="en-US" sz="4000" spc="1" strike="noStrike">
              <a:ln w="324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3333cc"/>
                  </a:gs>
                </a:gsLst>
                <a:lin ang="5400000"/>
              </a:gradFill>
              <a:effectLst>
                <a:outerShdw dist="40186" dir="20503642" blurRad="0" rotWithShape="0">
                  <a:srgbClr val="dddddd"/>
                </a:outerShdw>
              </a:effectLst>
              <a:latin typeface="Arial Unicode MS"/>
              <a:ea typeface="Arial Unicode MS"/>
            </a:endParaRPr>
          </a:p>
        </p:txBody>
      </p:sp>
      <p:pic>
        <p:nvPicPr>
          <p:cNvPr id="101" name="Tournesol" descr=""/>
          <p:cNvPicPr/>
          <p:nvPr/>
        </p:nvPicPr>
        <p:blipFill>
          <a:blip r:embed="rId1"/>
          <a:stretch/>
        </p:blipFill>
        <p:spPr>
          <a:xfrm>
            <a:off x="1828800" y="380880"/>
            <a:ext cx="5578560" cy="5635800"/>
          </a:xfrm>
          <a:prstGeom prst="rect">
            <a:avLst/>
          </a:prstGeom>
          <a:ln w="0">
            <a:noFill/>
          </a:ln>
          <a:effectLst>
            <a:outerShdw dist="77353" dir="562478" blurRad="0" rotWithShape="0">
              <a:srgbClr val="eaeaea"/>
            </a:outerShdw>
          </a:effectLst>
        </p:spPr>
      </p:pic>
      <p:sp>
        <p:nvSpPr>
          <p:cNvPr id="102" name=""/>
          <p:cNvSpPr txBox="1"/>
          <p:nvPr/>
        </p:nvSpPr>
        <p:spPr>
          <a:xfrm>
            <a:off x="2300400" y="1038240"/>
            <a:ext cx="47242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240">
                  <a:solidFill>
                    <a:srgbClr val="5f5f5f"/>
                  </a:solidFill>
                  <a:miter/>
                </a:ln>
                <a:solidFill>
                  <a:srgbClr val="ff0000"/>
                </a:solidFill>
                <a:effectLst>
                  <a:outerShdw dist="45929" dir="19571123" blurRad="0" rotWithShape="0">
                    <a:srgbClr val="dddddd"/>
                  </a:outerShdw>
                </a:effectLst>
                <a:latin typeface="Arial Unicode MS"/>
              </a:rPr>
              <a:t>Projekt Wiki</a:t>
            </a:r>
            <a:endParaRPr b="1" lang="en-US" sz="2400" spc="1" strike="noStrike">
              <a:ln w="3240">
                <a:solidFill>
                  <a:srgbClr val="5f5f5f"/>
                </a:solidFill>
                <a:miter/>
              </a:ln>
              <a:solidFill>
                <a:srgbClr val="ff0000"/>
              </a:solidFill>
              <a:effectLst>
                <a:outerShdw dist="45929" dir="19571123" blurRad="0" rotWithShape="0">
                  <a:srgbClr val="dddddd"/>
                </a:outerShdw>
              </a:effectLst>
              <a:latin typeface="Arial Unicode MS"/>
              <a:ea typeface="Arial Unicode MS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067280" y="104760"/>
          <a:ext cx="1218960" cy="72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67280" y="104760"/>
                    <a:ext cx="121896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F6AE-C175-4566-8FFA-55B5459A7CC6}" type="slidenum">
              <a:t>2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666520" y="152280"/>
            <a:ext cx="4496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Gliederu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47560" y="1447920"/>
            <a:ext cx="73911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Was ist ein Wiki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Warum ein Wiki an der BBS Winse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Welche Anwendungsbeispiele &amp; Erfahrungswerte liegen vo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Wie kann ich mitmache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Hilfe" descr="Bild:Hilfe.png"/>
          <p:cNvPicPr/>
          <p:nvPr/>
        </p:nvPicPr>
        <p:blipFill>
          <a:blip r:embed="rId1"/>
          <a:srcRect l="0" t="0" r="60527" b="0"/>
          <a:stretch/>
        </p:blipFill>
        <p:spPr>
          <a:xfrm>
            <a:off x="7894800" y="30492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FC9B-C258-486B-BCAF-C38256B29BD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Keyboard" descr=""/>
          <p:cNvPicPr/>
          <p:nvPr/>
        </p:nvPicPr>
        <p:blipFill>
          <a:blip r:embed="rId1"/>
          <a:stretch/>
        </p:blipFill>
        <p:spPr>
          <a:xfrm>
            <a:off x="5410080" y="4267080"/>
            <a:ext cx="3703680" cy="24228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447560" y="195552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Wiki = hawaiianisch "schnell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Internetseiten, die mit einfachsten Mitteln erstellt werden könn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Grundprinzip: Alle Nutzer können Informationen lesen </a:t>
            </a: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und bearbeiten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Beispiel: </a:t>
            </a:r>
            <a:r>
              <a:rPr b="0" lang="de-DE" sz="2800" spc="-1" strike="noStrike" u="sng">
                <a:solidFill>
                  <a:srgbClr val="33ccff"/>
                </a:solidFill>
                <a:uFillTx/>
                <a:latin typeface="Tahoma"/>
                <a:hlinkClick r:id="rId2"/>
              </a:rPr>
              <a:t>Wikip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1790640" y="477684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Nachtei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473120" y="1485720"/>
            <a:ext cx="53992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Tahoma"/>
              </a:rPr>
              <a:t>Was ist ein Wiki?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FB10-1697-4355-B807-7E8286D668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447560" y="1447920"/>
            <a:ext cx="73911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Tahoma"/>
              </a:rPr>
              <a:t>Warum ein Wiki an der BBS Winsen?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Element für Unterrichtsgestaltu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Förderung der Schülereigenaktivität, individuelle Förderung mögli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Transparenz von Inhalten, Strukturen und Metho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Informations-P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bbs_pic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5410080" y="3846600"/>
            <a:ext cx="3733920" cy="3011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2EE4-DDAF-4FBF-8815-521C81675D0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447920" y="14479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Anwendungsbeispiele &amp; Erfahrungswer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BS: </a:t>
            </a:r>
            <a:r>
              <a:rPr b="0" lang="de-DE" sz="2800" spc="-1" strike="noStrike" u="sng">
                <a:solidFill>
                  <a:srgbClr val="33ccff"/>
                </a:solidFill>
                <a:uFillTx/>
                <a:latin typeface="Tahoma"/>
                <a:hlinkClick r:id="rId1"/>
              </a:rPr>
              <a:t>Kfz-</a:t>
            </a:r>
            <a:r>
              <a:rPr b="0" lang="de-DE" sz="2800" spc="-1" strike="noStrike" u="sng">
                <a:solidFill>
                  <a:srgbClr val="33ccff"/>
                </a:solidFill>
                <a:uFillTx/>
                <a:latin typeface="Tahoma"/>
                <a:hlinkClick r:id="rId2"/>
              </a:rPr>
              <a:t>Mechatroniker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FG: Chem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FS-Metall: </a:t>
            </a:r>
            <a:r>
              <a:rPr b="0" lang="de-DE" sz="2800" spc="-1" strike="noStrike" u="sng">
                <a:solidFill>
                  <a:srgbClr val="33ccff"/>
                </a:solidFill>
                <a:uFillTx/>
                <a:latin typeface="Tahoma"/>
                <a:hlinkClick r:id="rId3"/>
              </a:rPr>
              <a:t>Entwicklung &amp; Konstruk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33ccff"/>
                </a:solidFill>
                <a:uFillTx/>
                <a:latin typeface="Tahoma"/>
                <a:hlinkClick r:id="rId4"/>
              </a:rPr>
              <a:t>Schüler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- &amp; </a:t>
            </a:r>
            <a:r>
              <a:rPr b="0" lang="de-DE" sz="2800" spc="-1" strike="noStrike" u="sng">
                <a:solidFill>
                  <a:srgbClr val="33ccff"/>
                </a:solidFill>
                <a:uFillTx/>
                <a:latin typeface="Tahoma"/>
                <a:hlinkClick r:id="rId5"/>
              </a:rPr>
              <a:t>Klassenseit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Linklisten, z. B. </a:t>
            </a:r>
            <a:r>
              <a:rPr b="0" lang="de-DE" sz="2800" spc="-1" strike="noStrike" u="sng">
                <a:solidFill>
                  <a:srgbClr val="33ccff"/>
                </a:solidFill>
                <a:uFillTx/>
                <a:latin typeface="Tahoma"/>
                <a:hlinkClick r:id="rId6"/>
              </a:rPr>
              <a:t>Ausbildungsbetriebe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de-DE" sz="2800" spc="-1" strike="noStrike" u="sng">
                <a:solidFill>
                  <a:srgbClr val="33ccff"/>
                </a:solidFill>
                <a:uFillTx/>
                <a:latin typeface="Tahoma"/>
                <a:hlinkClick r:id="rId7"/>
              </a:rPr>
              <a:t>Schulrecht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, Wiki-Ind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33ccff"/>
                </a:solidFill>
                <a:uFillTx/>
                <a:latin typeface="Tahoma"/>
                <a:hlinkClick r:id="rId8"/>
              </a:rPr>
              <a:t>Arbeitsblätter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hinterleg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0BE1-F74E-427B-93DF-CE854644746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Schilf" descr=""/>
          <p:cNvPicPr/>
          <p:nvPr/>
        </p:nvPicPr>
        <p:blipFill>
          <a:blip r:embed="rId1"/>
          <a:srcRect l="0" t="0" r="10129" b="11049"/>
          <a:stretch/>
        </p:blipFill>
        <p:spPr>
          <a:xfrm>
            <a:off x="1706400" y="1336680"/>
            <a:ext cx="7437600" cy="55213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828800" y="14479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ffffff"/>
                </a:solidFill>
                <a:latin typeface="Tahoma"/>
              </a:rPr>
              <a:t>Mitmachen!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selbst ausprobieren: Wiki-Hilfe nutz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Teilnahme an schulinterner Lehrer-Fortbildung (SchiL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7446-FFE3-46BD-90B1-9760D62B2BD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-304920" y="-152280"/>
            <a:ext cx="9448920" cy="716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Tournesol" descr=""/>
          <p:cNvPicPr/>
          <p:nvPr/>
        </p:nvPicPr>
        <p:blipFill>
          <a:blip r:embed="rId1"/>
          <a:stretch/>
        </p:blipFill>
        <p:spPr>
          <a:xfrm>
            <a:off x="1828800" y="380880"/>
            <a:ext cx="5578560" cy="56358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95480" y="350496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Vielen Dank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7DE8-E193-4B26-A8BD-F1C7DFC64B7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1T13:55:57Z</dcterms:created>
  <dc:creator>Detlef Giesler</dc:creator>
  <dc:description/>
  <dc:language>en-US</dc:language>
  <cp:lastModifiedBy>a</cp:lastModifiedBy>
  <dcterms:modified xsi:type="dcterms:W3CDTF">2007-02-14T16:11:01Z</dcterms:modified>
  <cp:revision>56</cp:revision>
  <dc:subject/>
  <dc:title>Projekt Wiki an der BBS Winsen</dc:title>
</cp:coreProperties>
</file>